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752-5580-42B6-9245-AF698E66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6780-6DB5-4319-839A-8C27128C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A86-23DE-4750-950D-20013C36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26B-7B16-4DC6-A833-B34994DE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EDB2-2667-4A89-AE80-DB04922A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3682-776C-43C6-9EDE-28CEC5A3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A8D1-C6C7-4418-BAD7-4A3F8F41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2F69-198C-4B18-9CF7-8995F25C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37E4-59AF-4A13-B65E-2ED81CB3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047C-80C3-43CF-B705-1566E3AF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A35F-7417-4361-B985-17BBA6B8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6E3-8DB6-46BD-B600-3C55BC0A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F858-9D6E-4199-8978-CE6CCB0D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AF85-EE6E-463E-84CB-333FC1E4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4571-4410-4FD3-89AA-8DF59F46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DE82-72EB-4F98-AE38-C5211931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6453-E971-4EC1-93A6-B21CB253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87F-7737-4D3B-95CC-7EC8D982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2B4-E7AC-49CF-A314-FCCED7C2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D1F-B4CC-41F6-8A88-ECF47756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EA8F-857B-4825-9EC1-FCD9A033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1D81-5920-4B66-A56E-175468CF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E7A9-AB1F-4B24-9173-5EAF52A0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D1D-0371-4AB4-AC87-B244501F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E356-E13F-4ED1-89D8-02404D1DDB4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E954-B07B-4914-8F67-0A95E4A3B39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8" descr="Image008"/>
          <p:cNvPicPr/>
          <p:nvPr/>
        </p:nvPicPr>
        <p:blipFill>
          <a:blip r:embed="rId1"/>
          <a:stretch/>
        </p:blipFill>
        <p:spPr>
          <a:xfrm>
            <a:off x="1908000" y="2492280"/>
            <a:ext cx="5328000" cy="399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9"/>
          <p:cNvSpPr/>
          <p:nvPr/>
        </p:nvSpPr>
        <p:spPr>
          <a:xfrm>
            <a:off x="720720" y="260280"/>
            <a:ext cx="842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555480" y="44280"/>
            <a:ext cx="85885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ноков А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математики и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КОУ «СОШ им. Х. Х. Долова» с. п. Хату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кенского района К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1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4824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универс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оригин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растров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ровым или векторным редактором является Pa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66920" y="1125360"/>
            <a:ext cx="2730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МР,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MF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IFF,GIF,PNG,JP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стр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752400" y="333360"/>
            <a:ext cx="839160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V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зучение новой темы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риемы работы в Pa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aint является растровым графическим редактором, это значит что, изображение строится из точек различных цветов. Соответственно и инструменты для работы с графикой будут как у художника. Напомню, что векторная графика базируется на математических форму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1">
            <a:hlinkClick r:id="" action="ppaction://hlinkshowjump?jump=nextslide"/>
          </p:cNvPr>
          <p:cNvSpPr/>
          <p:nvPr/>
        </p:nvSpPr>
        <p:spPr>
          <a:xfrm>
            <a:off x="8244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2">
            <a:hlinkClick r:id="" action="ppaction://hlinkshowjump?jump=firstslide"/>
          </p:cNvPr>
          <p:cNvSpPr/>
          <p:nvPr/>
        </p:nvSpPr>
        <p:spPr>
          <a:xfrm>
            <a:off x="766764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4000" y="134136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айте подробно рассмотрим инструменты, которые предоставляет нам Pai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глаза"/>
          <p:cNvPicPr/>
          <p:nvPr/>
        </p:nvPicPr>
        <p:blipFill>
          <a:blip r:embed="rId1"/>
          <a:stretch/>
        </p:blipFill>
        <p:spPr>
          <a:xfrm>
            <a:off x="3348000" y="0"/>
            <a:ext cx="238140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Безымянный1"/>
          <p:cNvPicPr/>
          <p:nvPr/>
        </p:nvPicPr>
        <p:blipFill>
          <a:blip r:embed="rId2"/>
          <a:stretch/>
        </p:blipFill>
        <p:spPr>
          <a:xfrm>
            <a:off x="4356000" y="2205000"/>
            <a:ext cx="1608120" cy="43657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4"/>
          <p:cNvSpPr/>
          <p:nvPr/>
        </p:nvSpPr>
        <p:spPr>
          <a:xfrm>
            <a:off x="6948360" y="2060640"/>
            <a:ext cx="1800360" cy="647640"/>
          </a:xfrm>
          <a:prstGeom prst="wedgeRectCallout">
            <a:avLst>
              <a:gd name="adj1" fmla="val -101763"/>
              <a:gd name="adj2" fmla="val 51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867280" y="2276640"/>
            <a:ext cx="73080" cy="288720"/>
          </a:xfrm>
          <a:custGeom>
            <a:avLst/>
            <a:gdLst>
              <a:gd name="textAreaLeft" fmla="*/ 0 w 73080"/>
              <a:gd name="textAreaRight" fmla="*/ 26280 w 73080"/>
              <a:gd name="textAreaTop" fmla="*/ 7200 h 288720"/>
              <a:gd name="textAreaBottom" fmla="*/ 281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5867280" y="3284640"/>
            <a:ext cx="73080" cy="43164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6948360" y="2924280"/>
            <a:ext cx="1800360" cy="649080"/>
          </a:xfrm>
          <a:prstGeom prst="wedgeRectCallout">
            <a:avLst>
              <a:gd name="adj1" fmla="val -102912"/>
              <a:gd name="adj2" fmla="val 3899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5867280" y="522936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6948360" y="5300640"/>
            <a:ext cx="1800360" cy="649440"/>
          </a:xfrm>
          <a:prstGeom prst="wedgeRectCallout">
            <a:avLst>
              <a:gd name="adj1" fmla="val -100527"/>
              <a:gd name="adj2" fmla="val -12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5940360" y="414972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6948360" y="3933720"/>
            <a:ext cx="1800360" cy="935280"/>
          </a:xfrm>
          <a:prstGeom prst="wedgeRectCallout">
            <a:avLst>
              <a:gd name="adj1" fmla="val -102912"/>
              <a:gd name="adj2" fmla="val 1162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трументы создания о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56000" y="30780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ение и Выделение произвольной области – выделяют весь рисунок или его фрагмент, для последующих операций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стик/Цветной ластик – стирает либо все подряд , либо только выбранный ц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ливка – закрашивает выбранным цветом замкнутый участок рису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цветов – позволяет уточнить тот или иной цвет в рису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штаб – позволяет увеличить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" action="ppaction://hlinkshowjump?jump=previousslide"/>
          </p:cNvPr>
          <p:cNvSpPr/>
          <p:nvPr/>
        </p:nvSpPr>
        <p:spPr>
          <a:xfrm>
            <a:off x="716436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Безымянный1"/>
          <p:cNvPicPr/>
          <p:nvPr/>
        </p:nvPicPr>
        <p:blipFill>
          <a:blip r:embed="rId1"/>
          <a:srcRect l="0" t="0" r="7614" b="89536"/>
          <a:stretch/>
        </p:blipFill>
        <p:spPr>
          <a:xfrm>
            <a:off x="576360" y="692280"/>
            <a:ext cx="1331640" cy="57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Безымянный1"/>
          <p:cNvPicPr/>
          <p:nvPr/>
        </p:nvPicPr>
        <p:blipFill>
          <a:blip r:embed="rId2"/>
          <a:srcRect l="0" t="10474" r="50510" b="81682"/>
          <a:stretch/>
        </p:blipFill>
        <p:spPr>
          <a:xfrm>
            <a:off x="684360" y="2133720"/>
            <a:ext cx="1155600" cy="496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Безымянный1"/>
          <p:cNvPicPr/>
          <p:nvPr/>
        </p:nvPicPr>
        <p:blipFill>
          <a:blip r:embed="rId3"/>
          <a:srcRect l="42400" t="7853" r="7614" b="81682"/>
          <a:stretch/>
        </p:blipFill>
        <p:spPr>
          <a:xfrm>
            <a:off x="887400" y="3259080"/>
            <a:ext cx="1020600" cy="57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Безымянный1"/>
          <p:cNvPicPr/>
          <p:nvPr/>
        </p:nvPicPr>
        <p:blipFill>
          <a:blip r:embed="rId4"/>
          <a:srcRect l="0" t="15717" r="50262" b="71208"/>
          <a:stretch/>
        </p:blipFill>
        <p:spPr>
          <a:xfrm>
            <a:off x="755640" y="393228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Безымянный1"/>
          <p:cNvPicPr/>
          <p:nvPr/>
        </p:nvPicPr>
        <p:blipFill>
          <a:blip r:embed="rId5"/>
          <a:srcRect l="42400" t="18328" r="7614" b="73819"/>
          <a:stretch/>
        </p:blipFill>
        <p:spPr>
          <a:xfrm>
            <a:off x="755640" y="4724280"/>
            <a:ext cx="1165320" cy="497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1">
            <a:hlinkClick r:id="" action="ppaction://hlinkshowjump?jump=firstslide"/>
          </p:cNvPr>
          <p:cNvSpPr/>
          <p:nvPr/>
        </p:nvSpPr>
        <p:spPr>
          <a:xfrm>
            <a:off x="773892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56000" y="188640"/>
            <a:ext cx="65880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андаш – имитирует карандаш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ть – имитирует кисть любого цвета и 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ылитель – имитирует распылитель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дпись – позволяет вводить текст, который затем становится рису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ия, Кривая линия – позволяет рисовать прямые     линии (Линия), и кривые (Кривая ли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угольник, Многоугольник, Эллипс, скругленный прямоугольник – эти инструменты позволяют рисовать соответствующие фигуры любого цвета и раз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4" descr="Безымянный1"/>
          <p:cNvPicPr/>
          <p:nvPr/>
        </p:nvPicPr>
        <p:blipFill>
          <a:blip r:embed="rId1"/>
          <a:srcRect l="7117" t="26191" r="57628" b="65966"/>
          <a:stretch/>
        </p:blipFill>
        <p:spPr>
          <a:xfrm>
            <a:off x="755640" y="260280"/>
            <a:ext cx="1008000" cy="52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Безымянный1"/>
          <p:cNvPicPr/>
          <p:nvPr/>
        </p:nvPicPr>
        <p:blipFill>
          <a:blip r:embed="rId2"/>
          <a:srcRect l="42648" t="26191" r="7862" b="65966"/>
          <a:stretch/>
        </p:blipFill>
        <p:spPr>
          <a:xfrm>
            <a:off x="755640" y="105264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Безымянный1"/>
          <p:cNvPicPr/>
          <p:nvPr/>
        </p:nvPicPr>
        <p:blipFill>
          <a:blip r:embed="rId3"/>
          <a:srcRect l="7117" t="34044" r="57628" b="58112"/>
          <a:stretch/>
        </p:blipFill>
        <p:spPr>
          <a:xfrm>
            <a:off x="763560" y="1698480"/>
            <a:ext cx="1000080" cy="603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Безымянный1"/>
          <p:cNvPicPr/>
          <p:nvPr/>
        </p:nvPicPr>
        <p:blipFill>
          <a:blip r:embed="rId4"/>
          <a:srcRect l="42648" t="34044" r="7862" b="58112"/>
          <a:stretch/>
        </p:blipFill>
        <p:spPr>
          <a:xfrm>
            <a:off x="826920" y="2492280"/>
            <a:ext cx="1079640" cy="46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Безымянный1"/>
          <p:cNvPicPr/>
          <p:nvPr/>
        </p:nvPicPr>
        <p:blipFill>
          <a:blip r:embed="rId5"/>
          <a:srcRect l="7117" t="41898" r="7862" b="50249"/>
          <a:stretch/>
        </p:blipFill>
        <p:spPr>
          <a:xfrm>
            <a:off x="826920" y="3213000"/>
            <a:ext cx="1081080" cy="50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Безымянный1"/>
          <p:cNvPicPr/>
          <p:nvPr/>
        </p:nvPicPr>
        <p:blipFill>
          <a:blip r:embed="rId6"/>
          <a:srcRect l="0" t="49761" r="7614" b="34542"/>
          <a:stretch/>
        </p:blipFill>
        <p:spPr>
          <a:xfrm>
            <a:off x="611280" y="4292640"/>
            <a:ext cx="1485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-2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ы учащихся прошлых лет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2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649440" y="46080"/>
            <a:ext cx="990144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1214280" y="-709560"/>
            <a:ext cx="11572560" cy="82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755640" y="476280"/>
            <a:ext cx="47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00000" y="981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006560" y="1773360"/>
            <a:ext cx="8137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воспользоваться инструментом, необходимо щелкнуть мышкой по значку с инструментом, затем перевести курсор мышки на поле для рисования, нажать и удерживать левую кнопку мышки. Пока кнопка нажата – рисует, отпущена – не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84360" y="2060640"/>
            <a:ext cx="8459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-это зеркало общей и педагог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льтуры учителя, мерило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ллектуального богат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азатель его кругозора и эру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.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 работа над изображением закончена, нужно сохранить его. Для этого нужно в меню «Файл», выбрать команду «Сохранить», затем в диалоговом окне ввести имя файла и нажать на кнопку «Сохранить». Таким образом вы сохраните файл и сможете воспользоваться им в следующий раз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вное дать правильное имя своему файлу – ведь если вы назовете его, допустим «Рисунок №1», то через какое-то время вы можете не вспомнить, что там нарисовано и вам придется открывать его. А если у вас несколько десятков таких рисунков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Закрепление материал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работа с программой «Paint».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075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ить приложение Paint. Для этого нужно кликнуть мышкой по кнопке «Пуск» — «Программы» — «Стандартные» — « Paint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 что-нибудь на свое усмотрение или воспользоваться предложенными образцами и создать их копии, добавить в рисунки свои фрагменты с использованием инструментов Заливка, Надпись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ить рисунок в папке Мои документы в вложенной папке своего класса, дав в качестве имени свою фамилию и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ть Pa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бразцы рисун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6545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68360" y="189000"/>
            <a:ext cx="84247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Диагностика усво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Для чего нам нужен Paint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Назовите основные инструменты Pain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7.2.1 (Угринович Н. 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 рисунок для дальнейшей работы над ним в среде MS Pa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пражнения: а) Выполнить переводы 69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б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равнение 6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х-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ит = 128 мбай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Вопросы учеников.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 на вопросы учащих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ведение итогов, выставление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Тема урока: Основные приемы  работы в Paint 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5" descr="animvasa.gif (244584 bytes)"/>
          <p:cNvPicPr/>
          <p:nvPr/>
        </p:nvPicPr>
        <p:blipFill>
          <a:blip r:embed="rId1"/>
          <a:stretch/>
        </p:blipFill>
        <p:spPr>
          <a:xfrm>
            <a:off x="3059280" y="2421000"/>
            <a:ext cx="3671640" cy="2457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 (материал 10 класса, в плане подготовки к ЕГЭ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ие понятий по теме «Графические редакторы»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графическим      редактором Paint 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авыков работы с графическим редактором Pain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овать воспитанию интереса к предмету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витие творческих способностей и познавательного интереса у учащихся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целеустремленности, умения работать в группе.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20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Arial"/>
              </a:rPr>
              <a:t>Ход урока:</a:t>
            </a: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200"/>
            </a:br>
            <a:br>
              <a:rPr sz="4200"/>
            </a:b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I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мент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етствие, проверка присутствующих. Объяснение хода ур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ая раб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440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системы счисления быв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колько раз увеличатся числа 12,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5,3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ереносе запятой на один знак впр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цифры используется в 5-й системе счис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5007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Позиционные и непозицио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В 3 и 8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0,1,2,3,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Упражнения на повторение темы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«Системы счисления»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ь переводы чисел 8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8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2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010011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5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Решить уравнение 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0000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Х=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95280" y="0"/>
            <a:ext cx="835344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онтальный опрос по предыдущей тем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1599840"/>
            <a:ext cx="418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виды компьюте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растровые изображения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пик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Растровая, векторная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 процессе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Минимальный участок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чем недостаток растровых изобра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векторные изобра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оинства векто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Чувствительность к масштаб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Из графических объектов, которые хранятся в памяти компьютера в виде графических примитивов и описывающих их математических форм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равнительно небольшой объем и возможность масштабирования без потери качества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33:30Z</dcterms:created>
  <dc:creator>Ошноков</dc:creator>
  <dc:description/>
  <dc:language>en-US</dc:language>
  <cp:lastModifiedBy>User</cp:lastModifiedBy>
  <dcterms:modified xsi:type="dcterms:W3CDTF">2012-08-27T05:58:09Z</dcterms:modified>
  <cp:revision>58</cp:revision>
  <dc:subject/>
  <dc:title>Слайд 1</dc:title>
</cp:coreProperties>
</file>